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9622-EA4E-4C71-90AF-70BB4316B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EC82-FEB2-4FA7-94E6-460BEB3D609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E7F6-A8C1-4254-8EFF-ABD7E97D94E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25A6-595E-49F6-9D35-EAD5D1BC761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BAF6-087F-4475-A94A-A9EB9A27F60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E8AE-AA83-4791-B1A2-FE5E950C700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6766-321B-435F-B0F2-23F0B041A8D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41BE-22A9-461E-8D25-A0811A7E292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C4C8-A935-49D6-8E3F-C232D49322A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27D4-D55B-4F19-B705-F44D1697C59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B1E9-CE38-45BF-A35F-BE0D0197E8C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541-82EB-43DD-BE12-F10F7EEF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23B-C8AC-4C22-B7EC-232EFA47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43C-EFF0-4C46-B32B-38E16A7F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2C2-F701-4E26-9C97-03F4693F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35B7-6C8B-4CA2-9E92-02EEEEBA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DC68-AF58-46B3-8E16-1ADC3192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098B-1B76-42E5-9F7E-30C0A378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8729-DD64-4F36-A28D-257BA1CE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8833-3C78-4CC2-9EA8-9CF32487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8016-8992-4980-86F6-2775F376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075D-F1D0-4BBD-8101-D5A13A70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8E3-E185-4EAA-BD9F-9AE9E088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B827-74BD-4875-A982-BA3CABFA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5D25-1C22-4051-88DB-E83CC24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B788-1A93-4EE9-9F6A-9DD9345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71C9-B9C4-4589-9649-C8594E03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A96C-1935-472D-942F-2492716C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A02-1679-41E5-B890-4D5B4E6B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3E4-69B8-43CD-A80F-773382A7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4E3-F4B6-4499-B931-44059E78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219-7540-418D-A3FB-2AFCEB3F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C9C-9F83-4DBB-A449-C88968DD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5F5-E279-4BEE-A45B-1D20B108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32C-F71A-4A75-80A6-ADF52D0C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F1DA-8B5E-489D-AD99-BF65DBA10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1E6A-D453-4298-A304-42EA8F2DFA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14"/>
          <p:cNvSpPr/>
          <p:nvPr/>
        </p:nvSpPr>
        <p:spPr>
          <a:xfrm>
            <a:off x="2514600" y="6172200"/>
            <a:ext cx="2895480" cy="457200"/>
          </a:xfrm>
          <a:custGeom>
            <a:avLst/>
            <a:gdLst>
              <a:gd name="textAreaLeft" fmla="*/ 29520 w 2895480"/>
              <a:gd name="textAreaRight" fmla="*/ 2865960 w 2895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6704" h="21600">
                <a:moveTo>
                  <a:pt x="0" y="0"/>
                </a:moveTo>
                <a:lnTo>
                  <a:pt x="136704" y="0"/>
                </a:lnTo>
                <a:lnTo>
                  <a:pt x="136704" y="21600"/>
                </a:lnTo>
                <a:lnTo>
                  <a:pt x="0" y="21600"/>
                </a:lnTo>
                <a:close/>
              </a:path>
              <a:path fill="lightenLess" w="136704" h="21600">
                <a:moveTo>
                  <a:pt x="0" y="0"/>
                </a:moveTo>
                <a:lnTo>
                  <a:pt x="136704" y="0"/>
                </a:lnTo>
                <a:lnTo>
                  <a:pt x="135304" y="1400"/>
                </a:lnTo>
                <a:lnTo>
                  <a:pt x="1400" y="1400"/>
                </a:lnTo>
                <a:close/>
              </a:path>
              <a:path fill="darken" w="136704" h="21600">
                <a:moveTo>
                  <a:pt x="136704" y="0"/>
                </a:moveTo>
                <a:lnTo>
                  <a:pt x="136704" y="21600"/>
                </a:lnTo>
                <a:lnTo>
                  <a:pt x="135304" y="20200"/>
                </a:lnTo>
                <a:lnTo>
                  <a:pt x="135304" y="1400"/>
                </a:lnTo>
                <a:close/>
              </a:path>
              <a:path fill="darkenLess" w="136704" h="21600">
                <a:moveTo>
                  <a:pt x="1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304" y="20200"/>
                </a:lnTo>
                <a:close/>
              </a:path>
              <a:path fill="lighten" w="1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64718"/>
              </a:gs>
              <a:gs pos="50000">
                <a:srgbClr val="ff9933"/>
              </a:gs>
              <a:gs pos="100000">
                <a:srgbClr val="764718"/>
              </a:gs>
            </a:gsLst>
            <a:lin ang="5400000"/>
          </a:gradFill>
          <a:ln w="64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w do children learn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273528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14400" y="22096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nsorimo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0-2 years 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operat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-7 years 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crete operat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-11 years 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al oper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1-14+ years 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2584080" y="621828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an Piaget (1896-1980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Preoperational children cannot conserv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example, rolling out a lump of clay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4" name="Object 2"/>
          <p:cNvGraphicFramePr/>
          <p:nvPr/>
        </p:nvGraphicFramePr>
        <p:xfrm>
          <a:off x="5486400" y="3124080"/>
          <a:ext cx="10746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124080"/>
                    <a:ext cx="10746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AutoShape 6"/>
          <p:cNvSpPr/>
          <p:nvPr/>
        </p:nvSpPr>
        <p:spPr>
          <a:xfrm>
            <a:off x="708660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nsorimotor  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0 - 2 years old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imulus bound and unable to initiate internal thou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ct to stimulus from without rather than from with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dy movements are experiments with their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d stimulus is important for develop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973600" cy="3914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"/>
          <p:cNvPicPr/>
          <p:nvPr/>
        </p:nvPicPr>
        <p:blipFill>
          <a:blip r:embed="rId2"/>
          <a:stretch/>
        </p:blipFill>
        <p:spPr>
          <a:xfrm>
            <a:off x="4114800" y="5334120"/>
            <a:ext cx="14223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eoperational   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2 - 7 years old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symbolize things (=&gt; language) and actions (e.g., think about it before doing it)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pay attention to 1 or maybe 2 aspects of a thing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cuses on states rather than transformations between state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gocentric =&gt; difficulty in understanding views that are not their 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181480" y="5410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5181480" y="4038480"/>
            <a:ext cx="381240" cy="6858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85800"/>
              <a:gd name="textAreaBottom" fmla="*/ 661320 h 685800"/>
            </a:gdLst>
            <a:ahLst/>
            <a:rect l="textAreaLeft" t="textAreaTop" r="textAreaRight" b="textAreaBottom"/>
            <a:pathLst>
              <a:path w="21600" h="38839">
                <a:moveTo>
                  <a:pt x="0" y="0"/>
                </a:moveTo>
                <a:lnTo>
                  <a:pt x="21600" y="0"/>
                </a:lnTo>
                <a:lnTo>
                  <a:pt x="21600" y="38839"/>
                </a:lnTo>
                <a:lnTo>
                  <a:pt x="0" y="38839"/>
                </a:lnTo>
                <a:close/>
              </a:path>
              <a:path fill="lightenLess" w="21600" h="388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39">
                <a:moveTo>
                  <a:pt x="21600" y="0"/>
                </a:moveTo>
                <a:lnTo>
                  <a:pt x="21600" y="38839"/>
                </a:lnTo>
                <a:lnTo>
                  <a:pt x="20200" y="37439"/>
                </a:lnTo>
                <a:lnTo>
                  <a:pt x="20200" y="1400"/>
                </a:lnTo>
                <a:close/>
              </a:path>
              <a:path fill="darkenLess" w="21600" h="38839">
                <a:moveTo>
                  <a:pt x="21600" y="38839"/>
                </a:moveTo>
                <a:lnTo>
                  <a:pt x="0" y="38839"/>
                </a:lnTo>
                <a:lnTo>
                  <a:pt x="1400" y="37439"/>
                </a:lnTo>
                <a:lnTo>
                  <a:pt x="20200" y="37439"/>
                </a:lnTo>
                <a:close/>
              </a:path>
              <a:path fill="lighten" w="21600" h="38839">
                <a:moveTo>
                  <a:pt x="0" y="388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3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6172200" y="2664000"/>
            <a:ext cx="273204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le to think of different times (beyond and before the pres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le to begin sorting and seriation =&gt; classific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able to reverse their think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derstanding of  subcategories is difficul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eoperational   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2 - 7 years old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tretch/>
        </p:blipFill>
        <p:spPr>
          <a:xfrm>
            <a:off x="6172200" y="2670120"/>
            <a:ext cx="27320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rete Operational   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7 - 11 years old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rn mainly through concrete experien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le to formulate more elaborate systems of classification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=&gt; more elaborate idea structur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ersibility =&gt; beginning to be able to conser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ience activities that                     encourage classification                 contribute to the “3 Rs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5715000" y="4648320"/>
            <a:ext cx="31622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3429000" cy="2438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mal Operational    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11 - 14+ years old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hild develops abstract, reflexive though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king processes are more hypothetical and dedu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tacognition is poss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hild can control and isolate variabl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Montessori classroo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5181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tive exploration and manipulation of objects enable learn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xed age grouping, discrepant events and subsequent coginitive conflict, encourage learn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Montessori environment is intended to maximize the child’s capabilities at any sta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6068880" y="2413080"/>
            <a:ext cx="30751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3441600" y="2463840"/>
            <a:ext cx="5702400" cy="4394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hildren learning about science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young children, experiencing is more important than experiment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l firsthand experiences using all of the senses nourishes the natural sense of inquiry.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 is no other beginning of learning than wonder”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 Pla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oddlers Property Law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If I like it, it'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If it's in my hand, it'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 If I can take it from you, it'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If I had it a little while ago, it'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. If it's mine, it must never appear to be yours in any w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If I'm doing or building something, all the pieces are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. If it looks like mine, it i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8. If I saw it first, it'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9. If you are playing with something and you put it down, it automatically become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. If it's broken, it's yours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800100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6T07:40:12Z</dcterms:created>
  <dc:creator>Mark Roddy</dc:creator>
  <dc:description/>
  <dc:language>en-US</dc:language>
  <cp:lastModifiedBy>Microsoft Office User</cp:lastModifiedBy>
  <cp:lastPrinted>2000-01-16T12:40:32Z</cp:lastPrinted>
  <dcterms:modified xsi:type="dcterms:W3CDTF">2016-02-26T18:02:10Z</dcterms:modified>
  <cp:revision>29</cp:revision>
  <dc:subject/>
  <dc:title>How do children learn?</dc:title>
</cp:coreProperties>
</file>